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4B1CA-F372-4483-BDF1-026E72475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375B4-6DD6-465D-A95D-874DAABE5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97001-8527-4207-88A0-23E923D37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47F01-F919-4270-98D3-DC8B0BFAC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252F3-276C-408F-970C-44B018442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95DF2-B738-4EB0-A345-6602212D5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3CAC5-D6A7-4421-9B12-FE5390B7F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35683-06A2-4B6D-857D-A8E47A2D6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10C60-10C0-415A-B7E0-BFDD1B2F8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7F080-D041-46A6-A022-E6D1531A0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64F11-C8E9-40B3-8AB5-329C6D7E2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2278E-524B-44A8-9D09-DD44F8F97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60186-1ACB-4F90-AA55-D75FC28C4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1ECB6-44D7-49F6-A6D2-BA2D86E1F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14055-27D7-47F1-A2A7-83AA663CA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1F9F0-09F2-46CD-AC54-0B5928CD5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0855C-BD11-41CB-849B-A13E8B8C5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AA9FD-1BA8-4589-9F92-7E4811AE7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A45B5-CF31-4AA6-827C-025570F55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733E0-D31B-4AE6-B9C7-7A21F78B8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D91CD-74BC-414B-A432-BAD55F765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3AE6F-E64A-4D08-A53C-31095CAE1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31697-12BA-4224-8F18-AEBA608CF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D64E4-633A-4DB0-833B-AC8FEE0B1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865C5-3F62-49B9-848A-E1E24C2CEB5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0C5A6-01D7-4869-B605-B03588F66AC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Transmis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veleng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occupied by one cyc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wo points of corresponding phase in two consecutive cyc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ing signal velocit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= v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 = 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= 3*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8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-1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peed of light in free spac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omain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usually made up of many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s are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shown (Fourier analysis) that any signal is made up of component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lot frequency domai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80880"/>
            <a:ext cx="82044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i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4331"/>
          <a:stretch/>
        </p:blipFill>
        <p:spPr>
          <a:xfrm>
            <a:off x="4114800" y="47520"/>
            <a:ext cx="4952880" cy="67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omain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5592"/>
          <a:stretch/>
        </p:blipFill>
        <p:spPr>
          <a:xfrm>
            <a:off x="3886200" y="200160"/>
            <a:ext cx="5114880" cy="64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ectrum &amp;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of frequencies contained i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olut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th of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jus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band of frequencies containing most of the ener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nent of zero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 with DC Compon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170"/>
          <a:stretch/>
        </p:blipFill>
        <p:spPr>
          <a:xfrm>
            <a:off x="2057400" y="1676520"/>
            <a:ext cx="49338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Rate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 transmission system has a limited band of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limits the data rate that can be car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and Digital Data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that convey mea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 or electromagnetic representation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of data by propagation and processing of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values within som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ound,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xt, integ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oustic Spectrum (Analo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7568"/>
          <a:stretch/>
        </p:blipFill>
        <p:spPr>
          <a:xfrm>
            <a:off x="762120" y="1655640"/>
            <a:ext cx="7467480" cy="50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wisted pair, optical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air, water, vacuu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ans by which data are propag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ly var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rious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re, fiber optic,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bandwidth 100Hz to 7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phone bandwidth 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bandwidth 4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DC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use digital signals for digital data and analog signals for analo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analog signal to carry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digital signal to carry analog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act Disc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55799"/>
          <a:stretch/>
        </p:blipFill>
        <p:spPr>
          <a:xfrm>
            <a:off x="457200" y="1838160"/>
            <a:ext cx="8153280" cy="44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47685" r="0" b="8262"/>
          <a:stretch/>
        </p:blipFill>
        <p:spPr>
          <a:xfrm>
            <a:off x="457200" y="1778040"/>
            <a:ext cx="815328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 transmitted without regard to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ed over dista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amplifiers to boos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amplifies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ed with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 endangered by noise, attenuation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ceives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cts bit patter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overco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ise is not ampl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17884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techn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 LSI/VLSI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distances over lower quality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pacity util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bandwidth links econom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degree of multiplexing easier with digital techniq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&amp; 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treat analog and digital data simi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Impair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eceived may differ from signal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- degradation of signal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- bit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 and attenuation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enu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trength falls off with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d signal streng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enough to be 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sufficiently higher than noise to be received withou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an increasing function of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ay Distor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velocity varies with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intermediate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-to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link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2 devices shar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than two devices shar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signals inserted between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m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rmal agitation of electr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formly 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te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that are the sum and difference of original frequencies sharing a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tal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 from one line is picked up by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ul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rregular pulses or spik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External electromagnetic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d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nnel Capac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data can be commun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cycles per second of Hert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ained by transmitter an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di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vi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direction, but only one way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police rad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directions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ph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, Spectrum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domain concep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arious in a smooth way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intains a constant level then changes to another constant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not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inuous &amp; Discrete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0534"/>
          <a:stretch/>
        </p:blipFill>
        <p:spPr>
          <a:xfrm>
            <a:off x="838080" y="1676520"/>
            <a:ext cx="7162920" cy="51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iodic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9662"/>
          <a:stretch/>
        </p:blipFill>
        <p:spPr>
          <a:xfrm>
            <a:off x="4324320" y="457200"/>
            <a:ext cx="481968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e 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Amplitude (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strength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(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change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rtz (Hz) or cycle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 = time for one repetition 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 = 1/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tive position i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ying Sine Wa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140"/>
          <a:stretch/>
        </p:blipFill>
        <p:spPr>
          <a:xfrm>
            <a:off x="1066680" y="1676520"/>
            <a:ext cx="67438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1:58Z</dcterms:modified>
  <cp:revision>35</cp:revision>
  <dc:subject/>
  <dc:title>William Stallings Data and Computer Communications</dc:title>
</cp:coreProperties>
</file>